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211-B949-41CC-848D-858D85A5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DC9-8703-4E80-A132-E29FAAC5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AB9-7D0E-4383-866A-8F803F48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A19-0EA5-4704-B4F0-F9986F37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AB55-6B45-4C15-A477-4E4CF860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661-4C39-4D47-BDBB-C602E01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184-43A4-40DF-B07C-53B93C33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76A-FF05-43D0-AB69-047F0A55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BB07-69CA-49F0-83AE-27F14AA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F1E0-F365-49EE-924D-B739B9C3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96FC-1988-45F7-B3CD-F3733F9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D60-3C0A-4589-B3A5-E5B251A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162-B024-4C1D-82EA-4935709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3D1F-DB1F-4C11-9041-DB57E55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D019-1B71-46CB-9193-4947097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3429-3455-4D0B-8F39-0639819E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B95-D373-41B3-B101-FD6DB9D2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93C-1F6D-48A0-8ECE-5641C092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0A9-76A7-4AA6-9B55-CCE25558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B69-8E76-40DC-9CD7-3C98769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C15-953D-4CB3-8F0E-E040ABAD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793-5CE8-4C6D-A5B8-78E14E4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6B0-5460-487E-BFBE-B425F1A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45E-DA5B-4590-88D9-BBC9026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8F56-5F59-4FDC-B792-00C4E6C755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6FD-ABF3-4FA2-B337-083A1C916C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Writing in Ancient Egypt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8960" y="4267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INTRIAGO AND RUSHABH KAMD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, How, and When Egyptian Writing was Inven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gyptian Writing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ystery Unlocked: The Rosette Sto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 Would Find Egyptian Wr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135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material did the ancient Egyptians invent to write on more eas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43828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-Cut 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Ruined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is papyrus paper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057400"/>
            <a:ext cx="6019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ized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y and s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r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sk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y did Egyptian scribes create a form of writing at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7162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eople can’t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track of the kingdom’s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record of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needed to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ere was the Rosetta Stone fou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1337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133720"/>
            <a:ext cx="5715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er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har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tta Buff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524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at are the three forms of writing on the Rosetta Sto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28600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, Algonquian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tic, Hieroglyphics, and In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, Demotic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-1186200" y="324324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7400" y="5943600"/>
            <a:ext cx="6143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e Hope You Enjoyed I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342900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y, How, and When Egyptian Writing was Invented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: The Egyptian scribes needed to keep record of the wealth of Egy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: The Egyptians at first came up with symbols standing for something. As the  kingdom grew, more symbols had to be invented for the com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: The first hieroglyphics were found on pottery and were dated back to about 3100 BC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1974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05120" y="304920"/>
            <a:ext cx="5105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gyptian Writing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old form of paper that the Egyptians used called papyrus paper, made from papyrus r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412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86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that Egyptians wrote with was an old type of pen made of a re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21932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gyptian Writing Tools (Continued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4864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k was black, indestructible, and made by mixing water, soot, and vegetable gu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914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 Mystery Unlocked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osetta Ston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ncient Egyptian hieroglyphics were lost around the year 400 AD (CE). A soldier found a stone near the city of Rosetta, near the Nile delta. It was named the Rosetta St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86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Rosetta Stone (Continued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setta Stone has three languages. The uppermost text is known as Egyptian hieroglyph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048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iddle writing is known as a later Egyptian writing called demotic, which is not as significant as Egyptian hieroglyph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876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ower part of the Rosetta Stone contains Greek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52480" y="762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Funny Part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9718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languages have the same meaning written on the Rosetta Sto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rd, hu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1447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other han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s wh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676520"/>
            <a:ext cx="597708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iz Time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34:52Z</dcterms:created>
  <dc:creator>Rushabh Kamdar</dc:creator>
  <dc:description/>
  <dc:language>en-US</dc:language>
  <cp:lastModifiedBy>Default</cp:lastModifiedBy>
  <dcterms:modified xsi:type="dcterms:W3CDTF">2009-01-15T18:04:39Z</dcterms:modified>
  <cp:revision>6</cp:revision>
  <dc:subject/>
  <dc:title>Writing in Ancient Egypt </dc:title>
</cp:coreProperties>
</file>